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399-521B-488D-AF44-0129F72E10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4F4-C262-4D5A-BA37-C7FA0D1442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459-A84C-4652-8F56-19E51A97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EEE-83F0-4AD3-8717-DB75072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575-48A5-4F81-B634-9376CDA9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EAD-2E95-4727-B670-77A1BA6E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163-033D-4835-8D31-18BCF1F4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C3B-8509-480F-A0EA-03FE949F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9CEF-2308-490E-9388-A0833AFD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B9BC-C983-4683-8F48-E7B8652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7B11-71D2-45EC-9C80-A6CE7B7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D86-8934-4DFA-A16A-BD01A08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D3E-85D9-44D6-A84B-5CE1B20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B8C-32AE-4A59-8D4B-D297257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4310-D5FD-4CE1-A5DE-02FBFE3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5C5-76E7-4D12-94F9-E239F6E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DE08-B703-459C-9E27-A692174E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5F47-F75F-42E8-B078-4608E513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06B9-7C42-497E-8A25-FC878C81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F0F84-DAFB-439E-84E5-22BF937D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CF271-A02B-4954-A1D8-5664DDF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34DE4-5848-4E1C-8021-E20DEBE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F3EE6-D877-48A9-9644-26CF2D9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DA000-CEE6-46B3-BF49-9E214472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AAE-C04F-4064-B1C3-18E626E4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90209-75F6-4FB9-8139-695DFDD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D34B2-3829-408D-B6B1-DC069D0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5D795-6C9F-4342-A6E7-3F40877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59185-2D97-4B7D-9882-A7C6D64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83FFB-B141-4862-94DB-63E78E81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10417-9D43-4D38-8D34-C0B2D322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6B75E-D0D1-4A4A-B785-03BDD078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A3E3-CF06-4E80-9D95-3D58C94E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60B7-F7EC-4A7F-B99B-99D689B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62C8-41EF-4602-A971-0DB90311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1E5-57A2-4600-ADCE-EB9E7C5D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1727-4F4D-4BD8-8602-A14C470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EA26-9570-4D10-8E4E-5CA5514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743A-EF50-4F86-95BF-EE2F661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1679-72C0-49A0-963F-DD22F2E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66F1-6F43-46A7-AAAA-E2B5D28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D3F3-BC29-4F63-A5E3-9B99728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56BA-3529-41D9-B6CF-C404DE4A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9290-CF04-4954-AAE4-AA885D20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7F98-F080-4B73-8F75-3A0CB10C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BAB1A-A7A6-4FF6-AA0C-BFFF8BFC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1D9-0F7B-49D3-B6E3-3F7410DB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9FCB0-4B5A-4AB5-81AA-81F6F93A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43543-D715-4EAD-966C-349F2DD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2AB6C-5888-433D-BA2A-624CE6C0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93469-480E-4F21-9CB1-E6463A54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8EC38-E12D-42B1-8167-ECC1C09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8ED06-CEDB-4A1E-AF6A-C00B914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E89C9-9007-46B8-A82B-9C8304F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66DDF-679A-43F1-866C-67E316A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0649C-692C-4719-A5EE-77F38FAC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6E9C3-9856-48EF-963E-0EA7C88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F14-0DA7-4FD3-9274-DCD9550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12E0C-4EB8-45F8-9CB9-CBEB5797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B2C-9A15-4ABD-8A1D-EE9539D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EB4-554C-45FD-B514-DF44AE0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435-15CE-432E-8364-89598E7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8D9-0DA7-484B-8E17-12FB36C708BD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2" descr="http://www.geo.fr/var/geo/storage/images/media/images/rubrique-environnement/la-france-nature/geo374-provence/portraits-france-nature-provence/noyer-dans-un-champ-de-lavande-en-provence/658639-1-fre-FR/noyer-dans-un-champ-de-lavande-en-provence_620x465.jpg"/>
          <p:cNvPicPr/>
          <p:nvPr/>
        </p:nvPicPr>
        <p:blipFill>
          <a:blip r:embed="rId2"/>
          <a:stretch/>
        </p:blipFill>
        <p:spPr>
          <a:xfrm>
            <a:off x="1143000" y="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d1e1e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819-AC24-4B39-AA99-FBB5E59EDAA6}" type="slidenum">
              <a:rPr b="1" lang="fr-FR" sz="1400" spc="-1" strike="noStrike">
                <a:solidFill>
                  <a:srgbClr val="d1e1e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EE35-84AC-4CD8-AE95-CB350A487BC8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4a606e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3B6-2CBB-4D28-930C-EE7D0386E1BF}" type="slidenum">
              <a:rPr b="1" lang="fr-FR" sz="1400" spc="-1" strike="noStrike">
                <a:solidFill>
                  <a:srgbClr val="4a606e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040-A46E-4CF2-A948-8E97EA16F78B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’EST À TOI! – LEVEL 2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361960" y="6049440"/>
            <a:ext cx="6514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Unité 3 – Leçon 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8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on père _____   ___________ en Provenve?! (naître). En quelle ville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9718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51814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1" name="Picture 5" descr="http://europa.eu/abc/maps/images/regions/france/provence.gif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9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Ma mère _____   ___________ fâchée parce qu’elle n’___ pas ____ aller au Château des Baux! (devenir)/(pouvo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25146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7242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venu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9880" y="241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5334120" y="243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8" name="Picture 5" descr="http://www.weloveprovence.fr/photos/Bouches-du-Rhone/Les-Baux-de-Provence/3174078825-Chateau-des-Baux-Les-Baux-de-Provence-p.jpg"/>
          <p:cNvPicPr/>
          <p:nvPr/>
        </p:nvPicPr>
        <p:blipFill>
          <a:blip r:embed="rId1"/>
          <a:stretch/>
        </p:blipFill>
        <p:spPr>
          <a:xfrm>
            <a:off x="1828800" y="3429000"/>
            <a:ext cx="5867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0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 __  _____  un pull parce qu’il faisait très froid. (mettre)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171936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25146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Picture 5" descr="http://blog.funsherpa.com/wp-content/uploads/2009/12/ChicagoUglySweater.jpg"/>
          <p:cNvPicPr/>
          <p:nvPr/>
        </p:nvPicPr>
        <p:blipFill>
          <a:blip r:embed="rId1"/>
          <a:stretch/>
        </p:blipFill>
        <p:spPr>
          <a:xfrm>
            <a:off x="2895480" y="2819520"/>
            <a:ext cx="330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1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icolette ___  _____  longtemps au sommet de la tour Magne. (rester)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272736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6576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té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8" name="Picture 5" descr="http://www.avignon-et-provence.com/tourisme-gard/nimes-ville-romaine/img/tour-magne-nimes-02.jpg"/>
          <p:cNvPicPr/>
          <p:nvPr/>
        </p:nvPicPr>
        <p:blipFill>
          <a:blip r:embed="rId1"/>
          <a:stretch/>
        </p:blipFill>
        <p:spPr>
          <a:xfrm>
            <a:off x="1600200" y="2895480"/>
            <a:ext cx="5952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Directions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vec un tableau, complétez les phrases suivantes avec le passé composé du verbe entre parenthè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u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ms)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_____   ___________ la Grotte de la Cocalière pour trois heures hier! (visiter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2057400" y="173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2670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Picture 7" descr="http://www.chateau-potelieres.com/Portals/0/Gallery/Album/33/Grotte%20de%20la%20Cocali%C3%A8re.jpg"/>
          <p:cNvPicPr/>
          <p:nvPr/>
        </p:nvPicPr>
        <p:blipFill>
          <a:blip r:embed="rId1"/>
          <a:stretch/>
        </p:blipFill>
        <p:spPr>
          <a:xfrm>
            <a:off x="1371600" y="327672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2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Michelle n’ _____ pas   ___________ à l’heure pour son train. (part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108240" y="17859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3244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ti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5" descr="http://www.luxurytraveler.com/tgv_east_1.jpg"/>
          <p:cNvPicPr/>
          <p:nvPr/>
        </p:nvPicPr>
        <p:blipFill>
          <a:blip r:embed="rId1"/>
          <a:stretch/>
        </p:blipFill>
        <p:spPr>
          <a:xfrm>
            <a:off x="1143000" y="2895480"/>
            <a:ext cx="70102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3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 </a:t>
            </a: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(mpl)</a:t>
            </a: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 _____     ___________ vendredi soir pour voir les Arènes d’Arles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(sort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57400" y="1785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4343400" y="1800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rt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4" name="Picture 5" descr="http://www.linternaute.com/sortir/magazine/photo/le-parc-france-miniature/image/arles-241506.jpg"/>
          <p:cNvPicPr/>
          <p:nvPr/>
        </p:nvPicPr>
        <p:blipFill>
          <a:blip r:embed="rId1"/>
          <a:stretch/>
        </p:blipFill>
        <p:spPr>
          <a:xfrm>
            <a:off x="1371600" y="2819520"/>
            <a:ext cx="64771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4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ls _____   ___________ dans la rue pour voir les chars décorés de citrons et d’oranges. (descendre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144792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65760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cendu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9" name="Picture 5" descr="http://cigalemistralavande.c.i.pic.centerblog.net/8tgx1tmz.jpg"/>
          <p:cNvPicPr/>
          <p:nvPr/>
        </p:nvPicPr>
        <p:blipFill>
          <a:blip r:embed="rId1"/>
          <a:stretch/>
        </p:blipFill>
        <p:spPr>
          <a:xfrm>
            <a:off x="-228600" y="342900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4.bp.blogspot.com/_9gyA0tzaNA0/R7wTfM-FOdI/AAAAAAAAEmY/tlAojJk017g/s640/IMG_2923.jpg"/>
          <p:cNvPicPr/>
          <p:nvPr/>
        </p:nvPicPr>
        <p:blipFill>
          <a:blip r:embed="rId2"/>
          <a:stretch/>
        </p:blipFill>
        <p:spPr>
          <a:xfrm>
            <a:off x="4495680" y="3429000"/>
            <a:ext cx="4819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5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e/J’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fs)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_____   ___________ mes amis au Petit Camargue. (vo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0574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2670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5" name="Picture 5" descr="http://www.creme-de-languedoc.com/images/map/Camargue2.gif"/>
          <p:cNvPicPr/>
          <p:nvPr/>
        </p:nvPicPr>
        <p:blipFill>
          <a:blip r:embed="rId1"/>
          <a:stretch/>
        </p:blipFill>
        <p:spPr>
          <a:xfrm>
            <a:off x="-228600" y="2895480"/>
            <a:ext cx="5781600" cy="3200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as-bousquette.com/images/camargue-chevaux.jpg"/>
          <p:cNvPicPr/>
          <p:nvPr/>
        </p:nvPicPr>
        <p:blipFill>
          <a:blip r:embed="rId2"/>
          <a:stretch/>
        </p:blipFill>
        <p:spPr>
          <a:xfrm>
            <a:off x="5410080" y="281952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6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ou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mpl)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_____   ___________ très vite après votre visite guidée du Palais des Papes! (rentrer). Ça t’a pas plu ?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13372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43434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ntré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Picture 5" descr="http://upload.wikimedia.org/wikipedia/commons/thumb/f/f1/Main_entrance_of_the_Palais_des_Papes_-_20050823.jpg/250px-Main_entrance_of_the_Palais_des_Papes_-_20050823.jpg"/>
          <p:cNvPicPr/>
          <p:nvPr/>
        </p:nvPicPr>
        <p:blipFill>
          <a:blip r:embed="rId1"/>
          <a:stretch/>
        </p:blipFill>
        <p:spPr>
          <a:xfrm>
            <a:off x="2209680" y="3505320"/>
            <a:ext cx="47246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7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 _____   ___________ le Pont d’Avignon en vélo pour apprécier la vue sur le fleuve. (traverser).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0574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42670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vers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6" name="Picture 5" descr="http://www.iblogyou.fr/Photos/maxi/maxi_18179.jpg"/>
          <p:cNvPicPr/>
          <p:nvPr/>
        </p:nvPicPr>
        <p:blipFill>
          <a:blip r:embed="rId1"/>
          <a:stretch/>
        </p:blipFill>
        <p:spPr>
          <a:xfrm>
            <a:off x="1219320" y="3429000"/>
            <a:ext cx="64767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12-16T14:07:38Z</dcterms:modified>
  <cp:revision>46</cp:revision>
  <dc:subject/>
  <dc:title>Allez, viens! – Level 2</dc:title>
</cp:coreProperties>
</file>